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DC3-3260-44B2-982B-1ED19502F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DF4-0E9E-4283-A4B1-35D3B0923F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2AA-5CB0-4F80-977A-5007D9023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C232-5E79-42E9-8091-C8DEC237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980A-3BE5-4A71-AB77-57C0FD0B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E95-B168-4C74-B835-C1B4348B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EA7-7E09-4538-9175-CCC2B239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0C0-399B-4111-AA60-046CD7FB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A06-BCB8-4E93-AFA6-AA9D2445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F249-137E-4682-88CB-E075BB0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D761A-12BA-45A4-BC35-7359C6A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78962-83A0-42F1-9C4F-F3234CF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1F942-C28D-4D06-8C29-A1E8804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A2C26-32D8-4763-90A4-0BA9E6C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15C22-673A-4083-B6A5-173A512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465FA-BCEE-4166-B789-2ACD276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15791-7D17-4D5A-9944-328843CA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47D65-8289-4B53-A070-4CB393AC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D31B9-9D79-4ABF-92D5-88A82704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286-9DAF-4BBB-B6B1-3DF76516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BF56-4655-4770-9EEE-BEA6F9DF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9F352-E560-4772-8BA4-C7FBEF9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61ADC-8151-43FD-B925-DCEC302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AC231-F544-4A0B-8CBE-1B0358F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E9214-3D3B-4B29-80DD-09816D4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53E9-C27F-4B38-84F5-E22E3E64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7A164-D16C-4E68-97D6-0E398D3E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EA273-4F19-43A6-A583-218E7E5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06A61-11FE-48B0-AB93-10FA244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34017-BE59-4DDA-9F67-4B1756C7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E68-5EAA-43E2-A3AC-9F2B1B9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AFF5-06C6-492E-9740-B8F6AA7E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96E2F-4A20-4D68-8657-896FAD28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D0CB1-FD51-4718-8152-C58FAF5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6C78-8497-48FF-B874-8C1EC8F2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D4F1-4693-4C70-910A-2720FBE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41602-E335-4B5A-9E92-19543E8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5D85-E85A-46B5-8522-EA09E52B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944BA-F5ED-4EAE-BE1F-AE608EC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AFF8F-39B3-4710-B42B-F8718EF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0C7A1-17B0-46AD-B449-F139EA3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DFC-C90C-4E2E-9DB8-171759F7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17D02-2CB1-4AA2-A961-85F6FE74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C8FF9-F6C9-4CEA-8AE4-052DC679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EFCB-8C12-4ACE-974F-73B49FD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AD603-5996-412A-8320-06F9824D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69FC6-9C84-4029-BC1E-468F88E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6BA6-3242-4B96-B38E-0B6D9A4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D1E9E-4DC5-4F6F-9CC9-966EFE0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D43EF-53EB-4785-B644-F09B5924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A71BA-DF22-4116-82AC-190EA1F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F9487-C9B5-48A0-A8BD-A966A24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980-975B-4511-8163-8E87603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B1EF8-0686-49B0-A0B3-E96CC96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867D4-AFEF-431E-8908-B1DBD29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B597-542A-41AC-960A-24484066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591D3-42B9-48CA-B5C9-7C6C6980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EF90-7250-4951-96CF-A2474A0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06319-34C1-4268-AEE2-F8EBE3CE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E0337-D133-4D2B-A728-2E7E25B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3C71A-0EBF-451E-B4D6-B5949C9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9FCDB-7A06-47E9-ADBA-AD5FEBF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642F2-798E-4F12-8EDF-E698A663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00FB-CFD5-4E76-BBCB-FB28810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A28D5-54EA-4315-B7F9-4B2273D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37E58-4DF9-4229-9778-6AF5520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BFA1D-A7FF-44FA-A970-D9701DA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316A5-D47F-42E5-81A1-2F747C1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01E9E-F727-4D88-B526-BF3A3A6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7F795-3B94-42F2-9E4B-B42433A3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938B7-0F5E-44B8-A77F-678D924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899-1765-461F-B575-FF33595C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925-A027-42BC-AB33-07B9212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B1CD-7952-497E-A32D-2081387C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7B6A-979B-4D5C-9FE1-FBABD812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224-DDDA-4F07-BA39-C72BC6E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CD8D-437A-4FF9-83DD-E43842B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991-703E-4DA8-A014-1EE2799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C46-0F61-447E-AC58-D8E2835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8506-6A6A-4563-8785-D594418A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38A-CED3-4051-A3D0-7FBA0987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3451-0F5C-48BC-8653-9E9EB9A0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B2B8-79E7-440C-9FE7-5CC768D3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3A5B-5138-454C-95D9-46AC548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7EA0-2244-4500-A1B1-73B7323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F3E7-BB1B-4247-A6CC-EAA452E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860-7341-43FE-9D8E-DD7A81F7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EF8D-40AC-443E-B06D-987F1D4C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EBD0-3DEC-40D3-A908-A3A9577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A4EC-8389-42B7-B700-6CE4172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BAFE-C1E9-4BA9-A510-01D6F8A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49FF-3295-4143-8883-ADE8900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B4CD-60CB-4971-95FB-D8A028B5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87CC-8FFC-47D8-B1C8-DA305B65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C384-1C15-400D-A955-0CB22A49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2501-11D1-485E-B125-83E1F9E7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FC7B-14D4-426E-BBAB-B9E74972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781-083B-4AD1-AA43-4E3D3FA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6385-65AC-4C1F-ADD0-1533ABDF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08A3-5EB4-416D-80FA-A26E632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8871-CD47-45BC-927F-2129B7F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DDEB-43DA-49D7-9D01-458B5F4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9DA5-E28F-4210-983D-B53A076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2A4B-38B1-442E-B2CA-DA86A24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7290-0C32-4AFC-80B7-51F74ED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9186-FEDB-4502-80B7-A04E71EF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DAF1-A0F4-437B-88EA-41F4C91A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F7BA-AFCE-4C05-9F67-C0B4CE71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BCF-471B-43D4-A0E3-6F4133A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795D-F494-427C-8444-0787530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D6FEC-C443-46FB-AAFA-5609241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9E09-ADB4-4799-BBEB-0AE45B4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48D0-0A7C-4890-8243-08ACBF88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504D-33AF-4813-9647-D0CD754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9201-C730-459C-860D-DD147D2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CFEC4-FF27-4F57-9915-9DB3AF4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07CB-E92C-494D-96B3-25DABE2A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8E53-5890-4273-8C5E-C9CE1B9A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D2EF-D35D-4DF6-BB5A-FAF8873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2F7-49D5-40B4-927F-9262EB12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7997-3AEC-4A14-BDBF-291CC74E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0A01C-73A7-44E9-87ED-45AEF10B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7BD5-679D-4956-B20F-4871B16C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26B7-24D0-4C77-998C-C7C1710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BA00-02EB-48CF-A726-622E7572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0C29-B07D-4F67-9106-7E380D94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C7C1-E76E-4C6F-A132-8D481A1F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14D1-0C88-4001-A1F8-18DF20D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1ACC-C2EE-4D10-BD0C-CD1A4FA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2651-0E79-4C36-A79E-1948954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4AC-6FCC-44C7-8863-AE2EB08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0F55-4BD7-4B43-9D25-30DB8F46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ED226-F5EB-406B-8CAA-E911F82C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B9A6-EE33-4911-92B5-9661E9C1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13A0-BE3C-43A3-97F6-BA01B30A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BE9D-0813-45DB-8818-00BEAC8F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BD55-1121-45F4-B488-E19E5121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8822-1EA0-4C5D-9AA3-3815BF8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D140-78FF-48B2-9437-E9F5B34F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633B-DAB7-4A64-8B9B-DCC51CF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C481-9C33-4FC4-A566-DD72A4A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FB1-A370-4EFA-9379-207B70D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6473-A6B2-4F61-B3A7-DDB7A03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FF87-3DD5-40D7-B170-20988D1C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3807-1ECB-4561-815B-2C811EE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4122-7243-43A4-83C0-9FA4FC7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F7CE-F947-4AEC-B908-A6515BB1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875A-C888-48F7-A7E4-130A481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528E2-426F-4C4A-9510-BD8A69C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C0C5-5619-40CD-8A9F-B562B1F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074C7-B992-4780-BFB4-16412DD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3B30-6848-41DB-855D-C1E1436E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628-B6CB-4356-9C4A-899D727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19BD-95E8-4FFA-A816-2E41B73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243F-2670-429D-9197-401EF74D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DF3FB-76F9-4B7C-A848-2D7911E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365CC-C3CA-4783-A316-E63640C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D1293-61DE-417D-B399-054972E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1D153-1DFB-47D7-8BFF-79BF985A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FEA9-2793-4C83-9CF8-A06B123A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4BA7D-01EC-4F37-88CB-186BD2D3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C5A37-89C5-46BB-840F-1833970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29FCC-D39E-40BB-98BE-F12657A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AF4-823F-4B7C-BF23-4AF26BE51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E54B-F269-4BD0-BA5A-A069A0BAD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A41-4FB2-4C02-A339-3674F359BE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302E-3147-469D-80EB-ACB465BEE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BCCA-B69A-46B0-A277-609D0F2E4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E1A-0430-4CF6-BDB9-67E4A7C0F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23-44E4-4680-A3D7-9D2B6F32B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839-C2BB-4E4D-B2EE-6ECD9A336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C0D-8D25-46F1-A6AE-30CCA341A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9B5-29EA-49ED-8F52-5C642FD88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87EF-5559-48C7-AA02-C9A7FE0E1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3FA7-F3CA-4713-843D-44AC5B8EE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230-6F1C-49C4-A4CA-928973FA2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35B-2CC8-445B-B05C-F17D7B9A2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E53C-93FB-40A4-8A8B-00F4482B9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B98B-8CBA-4476-81C1-3308BC10C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FAB-7930-431A-A351-9329E01C81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785C-A87D-4B08-BCD7-EB1E56DB4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74C-CB37-4764-BBB2-96AFFA97D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E9C-7F6D-4D95-9087-94ACF85F0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0D6-B139-4495-9202-A7B0B3899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F077-22EF-4FE9-978F-5FC29881C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E93-4EA5-4C83-9FA6-75F475F27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493-7A73-4761-9411-24206EBD7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64E4-B72B-4834-9F68-9B5A36C196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596D-666F-45E8-BFEA-A3B6352C8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interregrobg.eu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.europa.eu/sfc/en/2014/anti-fraud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7" name="Subtitle 2"/>
          <p:cNvSpPr/>
          <p:nvPr/>
        </p:nvSpPr>
        <p:spPr>
          <a:xfrm>
            <a:off x="343080" y="159696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ОРБА С ИЗМА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ФЛИКТ НА ИНТЕР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ектите, реализирани в рамките на Програмата Interreg V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Румъния-Бълг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9 август 2023, 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3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7920000" y="299880"/>
            <a:ext cx="1006560" cy="114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1301760"/>
            <a:ext cx="80773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bg-BG" sz="2800" spc="-1" strike="noStrike" u="sng">
                <a:solidFill>
                  <a:srgbClr val="ff0000"/>
                </a:solidFill>
                <a:uFillTx/>
                <a:latin typeface="Arial Black"/>
              </a:rPr>
              <a:t>Какво е из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Измама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- всяко умишлено действие или бездействие,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използване или представяне на неверни, неверни или непълни твърдения ил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638680" y="3224160"/>
            <a:ext cx="3105360" cy="2390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422280" y="3429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криване на информация в нарушение на конкретно задължение със същия е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използване на средства за цели, различни от тези, за които са отпуснати</a:t>
            </a:r>
            <a:r>
              <a:rPr b="0" lang="ro-RO" sz="18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BF9-5661-438D-A5F6-6D447CE3D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68B-C4EC-4A13-B3A7-4E9F9334F7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360" y="952560"/>
            <a:ext cx="8458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лен 57 от Финансовия рег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Конфликт на интереси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съществува, ако е компрометирано безпристрастното и обективно упражняване на функциите на финансов участник или други лица, участващи в изпълнението и управлението на бюджета, включително изготвянето на съответните подготвителни актове, както и в одита или контрола на бюджета поради причини, включващи: 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95360" y="3422520"/>
            <a:ext cx="819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Сем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литически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ционален афи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Личен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кономически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Други интереси, общи с тези на получ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299880" y="6149880"/>
            <a:ext cx="1341720" cy="6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4118040" y="3581280"/>
            <a:ext cx="4763880" cy="1806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80520" y="979200"/>
            <a:ext cx="853452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Документи за предотвратяване на измами и конфликт на интер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Глава 18.Б. „Мерки за борба с измамите” от Ръководството за изпълнение на проект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кандидати и бенефициенти на Програмата Interreg V-A Ro-Bg, достъпно на уебсайта на програмата (раздел „Публикации на програмата“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, достъпно на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https://ec.europa.eu/sfc/en/2014/anti-fraud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r>
              <a:rPr b="1" lang="bg-BG" sz="17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286000" y="50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80880" y="4900680"/>
            <a:ext cx="6400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бенефициенти на проекти, финансирани от ЕСИ за предотвратяване на нередности/измами, достъпно на 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https://www.integritate.eu/A.N.I.-interactiv/Ghiduri.asp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:\Users\gergana.mihaylova\Desktop\text-guide.png"/>
          <p:cNvPicPr/>
          <p:nvPr/>
        </p:nvPicPr>
        <p:blipFill>
          <a:blip r:embed="rId2"/>
          <a:stretch/>
        </p:blipFill>
        <p:spPr>
          <a:xfrm>
            <a:off x="6415200" y="4603680"/>
            <a:ext cx="2587680" cy="1725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3"/>
          <a:stretch/>
        </p:blipFill>
        <p:spPr>
          <a:xfrm>
            <a:off x="392040" y="62294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4968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br>
              <a:rPr sz="2000"/>
            </a:br>
            <a:r>
              <a:rPr b="1" lang="bg-BG" sz="2200" spc="-1" strike="noStrike">
                <a:solidFill>
                  <a:srgbClr val="002060"/>
                </a:solidFill>
                <a:latin typeface="Arial Black"/>
                <a:ea typeface="Arial"/>
              </a:rPr>
              <a:t>Как процедираме</a:t>
            </a:r>
            <a:r>
              <a:rPr b="1" lang="ro-RO" sz="2200" spc="-1" strike="noStrike">
                <a:solidFill>
                  <a:srgbClr val="002060"/>
                </a:solidFill>
                <a:latin typeface="Arial Black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43280" y="541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C:\Users\gergana.mihaylova\Desktop\code-of-conduct-img.jpg"/>
          <p:cNvPicPr/>
          <p:nvPr/>
        </p:nvPicPr>
        <p:blipFill>
          <a:blip r:embed="rId1"/>
          <a:stretch/>
        </p:blipFill>
        <p:spPr>
          <a:xfrm>
            <a:off x="6775560" y="2889360"/>
            <a:ext cx="2124000" cy="2460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425520" y="612792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76" name="Subtitle 2"/>
          <p:cNvSpPr/>
          <p:nvPr/>
        </p:nvSpPr>
        <p:spPr>
          <a:xfrm>
            <a:off x="372960" y="2701800"/>
            <a:ext cx="6132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 Black"/>
                <a:ea typeface="Arial"/>
              </a:rPr>
              <a:t>Препоръчително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ътрешен кодекс за поведение и политика на конфликт на интереси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  <a:ea typeface="Arial"/>
              </a:rPr>
              <a:t>по отношение на проекти, финансирани от европейски фондове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В противен случай - насоки на ЕС или други национални разпоредби (например: 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) или други национални разпоред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15800" y="2239560"/>
            <a:ext cx="8461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Arial"/>
              </a:rPr>
              <a:t>Сферата на обществените поръчки - най-податлива на из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екларации за целия персонал, участващ в процеса на възлагане на обществени поръчки - подписани, регистрирани и предоставени на структурите на Програмата (Приложение 17 в НИП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903320" y="544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026040" y="3675240"/>
            <a:ext cx="1824120" cy="244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01680" y="6124680"/>
            <a:ext cx="1222200" cy="5554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378000" y="3963960"/>
            <a:ext cx="519264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„4 очи” за всички документи, изготвени в съответствие с националното законодателство/изискванията на вътрешната програм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на ротация и произволен подбор при съставяне на комисията за оценка/подбор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46200" y="1420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135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47840" y="613260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88" name="Content Placeholder 1"/>
          <p:cNvSpPr/>
          <p:nvPr/>
        </p:nvSpPr>
        <p:spPr>
          <a:xfrm>
            <a:off x="685800" y="9907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66"/>
                </a:solidFill>
                <a:latin typeface="Trebuchet MS"/>
                <a:ea typeface="Arial"/>
              </a:rPr>
              <a:t>Нашият принцип</a:t>
            </a:r>
            <a:r>
              <a:rPr b="1" lang="ro-RO" sz="3000" spc="-1" strike="noStrike">
                <a:solidFill>
                  <a:srgbClr val="003366"/>
                </a:solidFill>
                <a:latin typeface="Trebuchet MS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Trebuchet MS"/>
                <a:ea typeface="Arial"/>
              </a:rPr>
              <a:t>Нулева толерантност към измами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  <a:ea typeface="Arial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339840" y="212724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293760" y="4473720"/>
            <a:ext cx="60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  <a:ea typeface="Arial"/>
              </a:rPr>
              <a:t>Системата за предупреждение на уебсайта на Програмат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https://www.interregrobg.eu/ro/cont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3"/>
          <a:stretch/>
        </p:blipFill>
        <p:spPr>
          <a:xfrm>
            <a:off x="7083360" y="438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2"/>
          <p:cNvSpPr/>
          <p:nvPr/>
        </p:nvSpPr>
        <p:spPr>
          <a:xfrm>
            <a:off x="6553080" y="6294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594-6B9B-4237-8A1E-35CCAD1A6E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522440" y="9050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0" lang="bg-BG" sz="2800" spc="-1" strike="noStrike">
                <a:solidFill>
                  <a:srgbClr val="002060"/>
                </a:solidFill>
                <a:latin typeface="Arial Black"/>
              </a:rPr>
              <a:t>ДОКЛА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gergana.mihaylova\Desktop\images.jpg"/>
          <p:cNvPicPr/>
          <p:nvPr/>
        </p:nvPicPr>
        <p:blipFill>
          <a:blip r:embed="rId1"/>
          <a:stretch/>
        </p:blipFill>
        <p:spPr>
          <a:xfrm>
            <a:off x="5764320" y="2797200"/>
            <a:ext cx="3074760" cy="2895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03200" y="601668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"/>
          <p:cNvSpPr/>
          <p:nvPr/>
        </p:nvSpPr>
        <p:spPr>
          <a:xfrm>
            <a:off x="746280" y="643104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Trebuchet MS"/>
                <a:ea typeface="Arial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6080" y="178920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случай на каквато и да е информация за съмнение за измама/нередност, свързана с Програмата, структурите за управление ще бъдат уведомени чрез системата за предупреждение: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румънските бенефици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sesizari.proiecte@mlpda.ro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българските бенефициенти</a:t>
            </a: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Yana.Koleva@mrrb.government.bg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Rositsa.Draganova@mrrb.government.b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D.Petkova@mrrb.government.b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0589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Slavena ZHELEVA</cp:lastModifiedBy>
  <cp:lastPrinted>2020-06-30T12:14:09Z</cp:lastPrinted>
  <dcterms:modified xsi:type="dcterms:W3CDTF">2023-08-07T09:25:24Z</dcterms:modified>
  <cp:revision>572</cp:revision>
  <dc:subject/>
  <dc:title>Slide 1</dc:title>
</cp:coreProperties>
</file>